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3.png" ContentType="image/png"/>
  <Override PartName="/ppt/media/image1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CAT_MEOW.WAV" ContentType="audio/x-wav"/>
  <Override PartName="/ppt/media/excellnt.wav" ContentType="audio/x-wav"/>
  <Override PartName="/ppt/media/yahoo02.wav" ContentType="audio/x-wav"/>
  <Override PartName="/ppt/media/image27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BARKS.WAV" ContentType="audio/x-wav"/>
  <Override PartName="/ppt/media/image18.jpeg" ContentType="image/jpeg"/>
  <Override PartName="/ppt/media/image15.jpeg" ContentType="image/jpeg"/>
  <Override PartName="/ppt/media/image16.jpeg" ContentType="image/jpeg"/>
  <Override PartName="/ppt/media/boingg.wav" ContentType="audio/x-wav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8377-8E25-4D1F-853D-C8B28362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7A09-8936-4AC6-9A5B-4062E7B1E1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9B1F-C2B6-4A29-A104-6C8D67CE07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FCEE-A6D9-4F6C-9115-45BE0117C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4AA-13C9-44F2-82FF-B68A53727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B75-5A29-4893-A086-E9259B072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55C-AFE4-423E-8FC9-D6D9825A17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9BBA-5FE8-4650-8565-57F92CC614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0C62-0B66-4F6A-87E1-F4911B489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2A1C-70A7-453F-A05E-E4270639B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422-7F97-46E8-8282-7CF9FE72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193-3914-4E1E-B946-BFA057DB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C51-64B2-4FF0-8726-E36B18D2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330-2FC0-49B2-AA6B-CBD7D4C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076-A77A-4CA5-ADEA-8C05BB5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294-E403-45D3-8CD7-DD84EA59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1D87-3104-4FCD-B0CC-9363F31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60D3-080D-40F0-87F6-E288437C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89B2-40BE-4344-95D0-F63B2FE6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4650-5F3B-4A3E-9ACD-E644274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D56-E991-4E0B-B11A-50DD12D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6B79-1FC6-44ED-9395-5535381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C423-5404-4CE7-915E-EF34E41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88DC-3261-4EF5-9916-7F2D826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D0F7-6B76-4D80-AC69-AD0BB33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408-401A-46A5-8D8C-7458B3F7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5B2F-D1C7-4672-ADA8-90A6574D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6BBF-44B0-49F3-B8D9-99F36A4E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890-3E7E-4851-A866-3E24704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9D9-F884-4339-9756-A93206EA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221-27A8-4137-B151-A2577A14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1CD-5CBD-4786-B33B-CC80023D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A82-1565-42EA-AF1A-1505389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0EE-C178-4B66-96C9-CCE3982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A7B-D7E2-4A48-BC7D-CACA88A5DA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38DC-4347-4EA6-99F7-6E9C2A5343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BARKS.WAV"/><Relationship Id="rId5" Type="http://schemas.openxmlformats.org/officeDocument/2006/relationships/audio" Target="../media/CAT_MEOW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BARKS.WAV"/><Relationship Id="rId6" Type="http://schemas.openxmlformats.org/officeDocument/2006/relationships/audio" Target="../media/CAT_ME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1859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Century Gothic"/>
              </a:rPr>
              <a:t>Do Now</a:t>
            </a:r>
            <a:endParaRPr b="1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Century Gothic"/>
                <a:ea typeface="Arial"/>
              </a:rPr>
              <a:t>Answer the following questions in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Century Gothic"/>
                <a:ea typeface="Arial"/>
              </a:rPr>
              <a:t>five or more </a:t>
            </a:r>
            <a:r>
              <a:rPr b="1" i="1" lang="en-US" sz="3700" spc="-1" strike="noStrike">
                <a:solidFill>
                  <a:srgbClr val="ffffff"/>
                </a:solidFill>
                <a:latin typeface="Century Gothic"/>
                <a:ea typeface="Arial"/>
              </a:rPr>
              <a:t>sentences:</a:t>
            </a:r>
            <a:br>
              <a:rPr sz="3700"/>
            </a:br>
            <a:r>
              <a:rPr b="1" i="1" lang="en-US" sz="3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entury Gothic"/>
                <a:ea typeface="Arial"/>
              </a:rPr>
              <a:t>What was the best part of your Winter Break?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entury Gothic"/>
                <a:ea typeface="Arial"/>
              </a:rPr>
              <a:t>Why was this the best part?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5" descr="http://images.christmastimeclipart.com/images/2/x1303512aa/img_large_watermarked.jpg"/>
          <p:cNvPicPr/>
          <p:nvPr/>
        </p:nvPicPr>
        <p:blipFill>
          <a:blip r:embed="rId1"/>
          <a:stretch/>
        </p:blipFill>
        <p:spPr>
          <a:xfrm>
            <a:off x="7696080" y="228600"/>
            <a:ext cx="1136880" cy="113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daproductions.net/gall2/var/albums/images-984599802/snowflake-clip-art-borders-free.jpg?m=1361923633"/>
          <p:cNvPicPr/>
          <p:nvPr/>
        </p:nvPicPr>
        <p:blipFill>
          <a:blip r:embed="rId2"/>
          <a:srcRect l="0" t="0" r="4271" b="3978"/>
          <a:stretch/>
        </p:blipFill>
        <p:spPr>
          <a:xfrm rot="1448400">
            <a:off x="7689960" y="3871440"/>
            <a:ext cx="1149120" cy="127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ttp://images.clipartpanda.com/free-snowman-clipart-4cbKaERXi.png"/>
          <p:cNvPicPr/>
          <p:nvPr/>
        </p:nvPicPr>
        <p:blipFill>
          <a:blip r:embed="rId3"/>
          <a:stretch/>
        </p:blipFill>
        <p:spPr>
          <a:xfrm>
            <a:off x="0" y="2916360"/>
            <a:ext cx="1884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nd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ke 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plural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anteceden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1" lang="en-US" sz="35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8" descr="kitten.jpg"/>
          <p:cNvPicPr/>
          <p:nvPr/>
        </p:nvPicPr>
        <p:blipFill>
          <a:blip r:embed="rId1"/>
          <a:stretch/>
        </p:blipFill>
        <p:spPr>
          <a:xfrm>
            <a:off x="6905520" y="41497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puppy.jpg"/>
          <p:cNvPicPr/>
          <p:nvPr/>
        </p:nvPicPr>
        <p:blipFill>
          <a:blip r:embed="rId2"/>
          <a:stretch/>
        </p:blipFill>
        <p:spPr>
          <a:xfrm>
            <a:off x="174600" y="3938760"/>
            <a:ext cx="2809800" cy="28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fscomps.fotosearch.com/compc/THK/THK015/c0038196.jpg"/>
          <p:cNvPicPr/>
          <p:nvPr/>
        </p:nvPicPr>
        <p:blipFill>
          <a:blip r:embed="rId3"/>
          <a:srcRect l="0" t="0" r="0" b="14527"/>
          <a:stretch/>
        </p:blipFill>
        <p:spPr>
          <a:xfrm>
            <a:off x="3149640" y="4111560"/>
            <a:ext cx="34416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75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ac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or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very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ecedes two [or more] singular things joined b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, you have 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singula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anteceden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27"/>
          <p:cNvSpPr/>
          <p:nvPr/>
        </p:nvSpPr>
        <p:spPr>
          <a:xfrm>
            <a:off x="228600" y="2971800"/>
            <a:ext cx="876312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Every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http://fscomps.fotosearch.com/compc/THK/THK015/c0038196.jpg"/>
          <p:cNvPicPr/>
          <p:nvPr/>
        </p:nvPicPr>
        <p:blipFill>
          <a:blip r:embed="rId3"/>
          <a:srcRect l="0" t="0" r="0" b="14527"/>
          <a:stretch/>
        </p:blipFill>
        <p:spPr>
          <a:xfrm>
            <a:off x="266760" y="4702320"/>
            <a:ext cx="1955880" cy="118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fscomps.fotosearch.com/compc/THK/THK015/c0038196.jpg"/>
          <p:cNvPicPr/>
          <p:nvPr/>
        </p:nvPicPr>
        <p:blipFill>
          <a:blip r:embed="rId4"/>
          <a:srcRect l="0" t="0" r="0" b="14527"/>
          <a:stretch/>
        </p:blipFill>
        <p:spPr>
          <a:xfrm>
            <a:off x="6781680" y="4835520"/>
            <a:ext cx="19558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11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matter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how many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the antecedent is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still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singula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1" i="1" lang="en-US" sz="33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1" i="1" lang="en-US" sz="33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231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731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731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9231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9731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731"/>
                            </p:stCondLst>
                            <p:childTnLst>
                              <p:par>
                                <p:cTn id="26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231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231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731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6231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Indefinite Pronoun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itle 3"/>
          <p:cNvSpPr/>
          <p:nvPr/>
        </p:nvSpPr>
        <p:spPr>
          <a:xfrm>
            <a:off x="3200400" y="1371600"/>
            <a:ext cx="5791320" cy="50292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entury Gothic"/>
              </a:rPr>
              <a:t>Indefinite Pronoun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a pronoun that </a:t>
            </a:r>
            <a:r>
              <a:rPr b="1" lang="en-US" sz="3200" spc="-1" strike="noStrike">
                <a:solidFill>
                  <a:srgbClr val="ffcc00"/>
                </a:solidFill>
                <a:latin typeface="Century Gothic"/>
              </a:rPr>
              <a:t>does not refer to any person, amount, or thing in particular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For example: 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anythin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 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somethin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 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anyon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ever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http://comps.canstockphoto.com/can-stock-photo_csp12322511.jpg"/>
          <p:cNvPicPr/>
          <p:nvPr/>
        </p:nvPicPr>
        <p:blipFill>
          <a:blip r:embed="rId1"/>
          <a:srcRect l="0" t="0" r="0" b="3404"/>
          <a:stretch/>
        </p:blipFill>
        <p:spPr>
          <a:xfrm>
            <a:off x="152280" y="2209680"/>
            <a:ext cx="289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6553080" cy="4495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Each, either, neither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Anyone, anybody, anything 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Everyone, everybody, everything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No one, nobody, nothing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Someone, somebody, something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Picture 5" descr="http://comps.canstockphoto.com/can-stock-photo_csp19901700.jpg"/>
          <p:cNvPicPr/>
          <p:nvPr/>
        </p:nvPicPr>
        <p:blipFill>
          <a:blip r:embed="rId1"/>
          <a:srcRect l="0" t="0" r="0" b="4965"/>
          <a:stretch/>
        </p:blipFill>
        <p:spPr>
          <a:xfrm>
            <a:off x="6172200" y="3657600"/>
            <a:ext cx="2895480" cy="266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http://www.clker.com/cliparts/f/2/0/d/13092826961846867720pencil-f-md.png"/>
          <p:cNvPicPr/>
          <p:nvPr/>
        </p:nvPicPr>
        <p:blipFill>
          <a:blip r:embed="rId2"/>
          <a:stretch/>
        </p:blipFill>
        <p:spPr>
          <a:xfrm>
            <a:off x="5943600" y="1219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8" name="Rounded Rectangular Callout 4"/>
          <p:cNvSpPr/>
          <p:nvPr/>
        </p:nvSpPr>
        <p:spPr>
          <a:xfrm>
            <a:off x="304920" y="304920"/>
            <a:ext cx="3733560" cy="327636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Earth =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 more tha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person—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billion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people, in fact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ord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 everyon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however, is still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 singula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8077320" cy="1298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9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5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449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Mini Lesson:</a:t>
            </a:r>
            <a:br>
              <a:rPr sz="6000"/>
            </a:br>
            <a:r>
              <a:rPr b="1" lang="en-US" sz="6000" spc="-1" strike="noStrike" u="sng">
                <a:solidFill>
                  <a:srgbClr val="ffffff"/>
                </a:solidFill>
                <a:uFillTx/>
                <a:latin typeface="Calibri"/>
              </a:rPr>
              <a:t>Pronoun Agreement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January 5, 2015</a:t>
            </a:r>
            <a:endParaRPr b="1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2" descr="http://languagearts.pppst.com/m_pronouns.gif"/>
          <p:cNvPicPr/>
          <p:nvPr/>
        </p:nvPicPr>
        <p:blipFill>
          <a:blip r:embed="rId1"/>
          <a:stretch/>
        </p:blipFill>
        <p:spPr>
          <a:xfrm>
            <a:off x="2629080" y="4572000"/>
            <a:ext cx="464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On your own…</a:t>
            </a:r>
            <a:endParaRPr b="1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Complete worksheets one and two with the correct pronoun.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If you finish early, write five sentences with pronouns and their antecedents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Underline the anteceden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Circle the pronoun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40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Pronoun and Antecedents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371240"/>
            <a:ext cx="8686800" cy="53341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cc00"/>
                </a:solidFill>
                <a:uFillTx/>
                <a:latin typeface="Century Gothic"/>
                <a:ea typeface="Arial"/>
              </a:rPr>
              <a:t>Antecedent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: the </a:t>
            </a:r>
            <a:r>
              <a:rPr b="1" i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specific noun 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that comes </a:t>
            </a:r>
            <a:r>
              <a:rPr b="1" i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before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 the pronoun</a:t>
            </a:r>
            <a:br>
              <a:rPr sz="4200"/>
            </a:br>
            <a:r>
              <a:rPr b="1" lang="en-US" sz="42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cc00"/>
                </a:solidFill>
                <a:uFillTx/>
                <a:latin typeface="Century Gothic"/>
                <a:ea typeface="Arial"/>
              </a:rPr>
              <a:t>Pronoun: </a:t>
            </a:r>
            <a:r>
              <a:rPr b="1" lang="en-US" sz="4200" spc="-1" strike="noStrike">
                <a:solidFill>
                  <a:srgbClr val="1e1c11"/>
                </a:solidFill>
                <a:latin typeface="Century Gothic"/>
                <a:ea typeface="Arial"/>
              </a:rPr>
              <a:t>class of words that  are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 used as </a:t>
            </a:r>
            <a:r>
              <a:rPr b="1" i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replacements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 for  nouns 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e1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1c11"/>
                </a:solidFill>
                <a:latin typeface="Century Gothic"/>
                <a:ea typeface="Arial"/>
              </a:rPr>
              <a:t>For Exampl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43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1e1c11"/>
                </a:solidFill>
                <a:uFillTx/>
                <a:latin typeface="Century Gothic"/>
                <a:ea typeface="Arial"/>
              </a:rPr>
              <a:t>Madeline</a:t>
            </a:r>
            <a:r>
              <a:rPr b="1" lang="en-US" sz="4000" spc="-1" strike="noStrike">
                <a:solidFill>
                  <a:srgbClr val="1e1c11"/>
                </a:solidFill>
                <a:latin typeface="Century Gothic"/>
                <a:ea typeface="Arial"/>
              </a:rPr>
              <a:t> bit </a:t>
            </a:r>
            <a:r>
              <a:rPr b="1" i="1" lang="en-US" sz="4000" spc="-1" strike="noStrike" u="sng">
                <a:solidFill>
                  <a:srgbClr val="1e1c11"/>
                </a:solidFill>
                <a:uFillTx/>
                <a:latin typeface="Century Gothic"/>
                <a:ea typeface="Arial"/>
              </a:rPr>
              <a:t>her</a:t>
            </a:r>
            <a:r>
              <a:rPr b="1" lang="en-US" sz="4000" spc="-1" strike="noStrike">
                <a:solidFill>
                  <a:srgbClr val="1e1c11"/>
                </a:solidFill>
                <a:latin typeface="Century Gothic"/>
                <a:ea typeface="Arial"/>
              </a:rPr>
              <a:t> lip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5" descr="http://thumbs.dreamstime.com/z/business-girl-dreaming-vacation-woman-biting-her-lip-reflection-her-sunglasses-summer-sea-palm-trees-illustration-32866099.jpg"/>
          <p:cNvPicPr/>
          <p:nvPr/>
        </p:nvPicPr>
        <p:blipFill>
          <a:blip r:embed="rId1"/>
          <a:srcRect l="0" t="0" r="9170" b="0"/>
          <a:stretch/>
        </p:blipFill>
        <p:spPr>
          <a:xfrm>
            <a:off x="6172200" y="449568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801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1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pronouns pronoun agreement grammar Grammar Bytes! Robin L. Simmons</cp:keywords>
  <dc:language>en-US</dc:language>
  <cp:lastModifiedBy>Shettle, Meghan</cp:lastModifiedBy>
  <dcterms:modified xsi:type="dcterms:W3CDTF">2014-12-30T19:14:30Z</dcterms:modified>
  <cp:revision>315</cp:revision>
  <dc:subject/>
  <dc:title>Pronoun Agreement</dc:title>
</cp:coreProperties>
</file>